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8BF-8818-4C60-B3C0-364DF52B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2C1-2017-48BA-B69B-B6D1A4A3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034-B21A-4FF4-99E0-75892842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1AE-DD14-4A6F-9CEA-D70F06B9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FE21-F4A3-4327-8FBE-B06769E0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2C94-0A12-4778-88DF-B969E6CF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5965-E095-479B-8F39-96CCEC41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248E-19B3-4C6D-8B6C-AB21AE63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BC01-7676-4B86-9606-D09C6DDB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637C-BF88-48A2-92BB-CFE121DA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526A-50A1-4A3B-8C1F-BF1A3B95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021-C85C-482B-BD30-72C2128A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3B0B-375C-4081-8C39-21E0ED5D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AC6A-4516-411E-A4D3-2AAB6BD3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5B8D-C58E-4365-96BA-CCD32CD2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81D2-1EB4-4381-92C2-A4F41768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B3B1-5ADB-4FFD-BCF7-5072BB25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B47D7-9B6D-43E5-9EDE-0E6C8B56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70E8F-C29A-4E0D-B2F8-25238153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0ED65-FD0F-4B8C-8E7D-104B6C36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26ABE-5D33-4613-B8AF-91C39EFE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C6E39-FCD6-4A90-8D49-2B272EA1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F21-34EE-4494-B5C4-BBB934D9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0F0BC-8B96-4972-95AF-FD0614A5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E0493-AFD7-4852-AD74-7A39C631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2AB43-DCD9-403F-AF09-4666F045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3A2DD-8D3A-4643-82E2-CAF62C15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CC062-2FB5-415F-B933-32A8AB26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4931F-C331-4E47-9A59-1CB124A0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A91B3-E486-4206-AF81-02C59628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6BC07B-4C1A-49E6-8F8B-EB461A51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0888E-027A-401B-8590-B14095C5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7AD20A-145B-4E3A-98A9-446FB00A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39E-6D54-4BEE-BE09-68CAE927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0014C-45CB-41DB-A0EC-6BF45F2E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B2722F-74B6-4598-8766-EBF151A8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75C45-918B-494B-BA42-6D7A3895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68FEDA-BF7C-4E7E-876D-FDD8C0B0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4D2EF-E7BA-4030-8BC3-6D181690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4F10F-34B8-4F6F-898A-FFAE2498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19D3D5-C815-49BA-9C60-FD3B94E3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CB34B8-A12A-4389-8719-AB29B06A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E7F8D-2848-4DE1-B983-D1BF4C15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76C15-FCA7-4740-9E5C-BA4EDC28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277-8CD1-4B34-9E64-1C93DFED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EF947-CCFF-453E-8935-199391E5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D2CAF-18C6-4E71-9C45-8FD458CD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D3CD79-FCDE-454A-A71D-9487BBF6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6F62B-33BA-4CA5-A59A-414FF65A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F575B6-3EFC-4185-BFD6-EE9541A2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66DF5-C4B0-4B7F-BF74-84FD9E4D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2B048-913B-472F-AA8A-D63D6E4D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6D61E9-2891-46ED-8F6F-ADFE6B72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3C6D8-F0B5-495E-A2C1-040A22A8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80471-3A1E-481D-8EBD-077F0CCD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28E-38BF-48BF-94BB-95A4D38B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27393-D70B-47C7-ABD2-39AD39DE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63444-74CB-46A0-AAF9-68F88BFA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B6FCA-5F68-4C1C-8480-8B9F13C3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74C51-2FBA-418F-BC4A-7DD1A803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8D522-7A96-4AC6-B5ED-367F3E15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0A3AF-AA26-4E79-8C96-808831BC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04931-1E24-4837-B615-03755FA3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D8ED5-3921-4049-B9B0-E412399E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BB7C3-29CF-48FF-9706-792C9296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091A7-504D-47F5-8A58-A7E79B84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6C6E-57EC-49BD-8BDB-7B50E3C1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F3C0B-FA1D-4E8D-8767-88D8E402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02960-5BF9-495E-8E62-F2B1561B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9B69E-D49F-4464-BD4C-D820883C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68094-D60B-4C20-B16C-824CD95E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194A66-9B36-4C66-AF3B-4FF87051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598E8E-C90C-4927-864C-7E238199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9528E-7A18-4744-A1F9-B0BDD908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147F1-28E7-4CA0-BAB0-3861FBEB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B7BE0-0D2B-4C5F-88CC-0F1D0302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B6A391-1CD1-4805-BFFB-6752A54A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9A8-B357-465A-B94A-6F9F3FF6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990A8-2B2F-4BB8-83BC-DDF4B88E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947FE-51B7-41B2-91EB-A23534E4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BAAE69-5DDF-4786-8AC4-3A351349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B72DE5-F280-4BB9-837A-79591BEB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F91C1E-A833-4BD7-8AF7-8F1C5C46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9FE03-DE2E-4D86-B355-CAC2D9A1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12231-A71D-4360-BFE4-AA3DB1BB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E1F7D-5DDE-4854-9951-271699F6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54EC2-93C2-4759-8D86-D8362937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40A76-FCFE-44D1-8DD6-24020636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6EE-F701-49D3-BE54-2519481A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37780-AD38-4E57-9BAE-DBDA3C3D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841DD-9BB4-4359-859D-3A98B2BD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DC560-0508-49CD-8AF6-FF2CF4D6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E01D5-1931-4FE7-9964-7E94D6B2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3F823-E8B4-4D49-90C9-BF3A1508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4A5AC-F0D3-49F1-AD86-6399F476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C285C-86B9-446A-9951-C3F80284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9478-48DC-4678-A3E8-2BFC49AB5DE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86CB-6C82-4661-A8A8-81ECF6AD5315}" type="slidenum">
              <a:rPr b="1" lang="ru-RU" sz="1400" spc="-1" strike="noStrike">
                <a:solidFill>
                  <a:srgbClr val="dbf5f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401F-BBA8-499B-9CC6-A6F74660168D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586F-771C-4675-B0EE-5A7DE1E56D0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5521-293C-4D54-A652-3C7225CBED6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5A8D-BFC2-4457-A011-019B36A6C6DE}" type="slidenum">
              <a:rPr b="1" lang="ru-RU" sz="1400" spc="-1" strike="noStrike">
                <a:solidFill>
                  <a:srgbClr val="04617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5F69-1766-49E5-911F-6E6C0400F27F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E53C-FB6D-42EC-B7BD-6535753B616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dpptmfmp@gmail.com" TargetMode="External"/><Relationship Id="rId2" Type="http://schemas.openxmlformats.org/officeDocument/2006/relationships/hyperlink" Target="mailto:dpptmekolog@gmail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56800" y="785520"/>
            <a:ext cx="726300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Социальные сервисы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Веб 2.0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в проектной деятельности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артовую презентацию подготовила М.А. Габов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571680" y="4071960"/>
            <a:ext cx="81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здаем свой проект и размещаем его в се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4200" y="228600"/>
            <a:ext cx="8715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Этапы работы над проектом (с. 13 – 15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14200" y="157176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Формулирование темы, основополагающего и проблемных вопросов группового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Определение целей и задач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Формулировка и обсуждение тем индивидуальных прое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ланирование работы в групп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оиск информации по темам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Самостоятельная работа над индивидуальными проек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одготовка портфолио, выбор формы представления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одготовка портфолио группового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Защита творческих проек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500"/>
                            </p:stCondLst>
                            <p:childTnLst>
                              <p:par>
                                <p:cTn id="6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Что мы делаем сегодня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4200" y="1600200"/>
            <a:ext cx="87868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накомимся с теоретическим материалом по теме (презентация «Проекты» в папке Тема 4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матриваем примеры проектов (в хрестоматии и на диске – модуль 1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полняем лист планирования работы по проекту (сетевая папка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улируем творческую тему группового проекта и его основополагающий вопрос (помощь – презентация «Основ вопрос» в папке Тема 4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пределяем темы индивидуальных проектов в групп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пределяем обязанности по разработке портфолио проекта в групп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гистрируем группу в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gle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 на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iki.kgpi.r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чинаем заполнять визитные карточки проектов (с. 22 – 27 и на диске Модуль 1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omic Sans MS"/>
              </a:rPr>
              <a:t>Портфолио проекта групп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omic Sans MS"/>
              </a:rPr>
              <a:t>Визитная карточ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omic Sans MS"/>
              </a:rPr>
              <a:t>Wiki</a:t>
            </a:r>
            <a:r>
              <a:rPr b="0" lang="ru-RU" sz="2900" spc="-1" strike="noStrike">
                <a:solidFill>
                  <a:srgbClr val="04617b"/>
                </a:solidFill>
                <a:latin typeface="Comic Sans MS"/>
              </a:rPr>
              <a:t>-страничка с общим описанием проекта и ссылками на индивидуальные проект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omic Sans MS"/>
              </a:rPr>
              <a:t>Презентация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omic Sans MS"/>
              </a:rPr>
              <a:t>Сайт или блог проект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500"/>
                            </p:stCondLst>
                            <p:childTnLst>
                              <p:par>
                                <p:cTn id="7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Портфолио индивидуального проек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Визитная карточ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Публикация или презентация по материалам проек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Презентация проекта или </a:t>
            </a:r>
            <a:r>
              <a:rPr b="0" lang="en-US" sz="2700" spc="-1" strike="noStrike">
                <a:solidFill>
                  <a:srgbClr val="04617b"/>
                </a:solidFill>
                <a:latin typeface="Comic Sans MS"/>
              </a:rPr>
              <a:t>wiki</a:t>
            </a: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-стать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Дидактические материалы (конспекты, игры, кроссворды, схемы для детей или студентов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Информационные материалы (статьи, интересные факты, энциклопедические сведения и т.п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Аннотированный каталог информационных ресурс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500"/>
                            </p:stCondLst>
                            <p:childTnLst>
                              <p:par>
                                <p:cTn id="7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4500"/>
                            </p:stCondLst>
                            <p:childTnLst>
                              <p:par>
                                <p:cTn id="8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500"/>
                            </p:stCondLst>
                            <p:childTnLst>
                              <p:par>
                                <p:cTn id="8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Calibri"/>
              </a:rPr>
              <a:t>Лучшие проект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огут быть представлены на научно-практической конференции студентов и аспирантов КГПИ (и на других конференциях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огут участвовать в конкурсе проектов студентов КГП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alibri"/>
              </a:rPr>
              <a:t>Контактная информац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6686d"/>
                </a:solidFill>
                <a:latin typeface="Calibri"/>
              </a:rPr>
              <a:t>Габова Марина Анатольев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w Cen MT"/>
              </a:rPr>
              <a:t>E-mail: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Tw Cen MT"/>
                <a:hlinkClick r:id="rId1"/>
              </a:rPr>
              <a:t>dpptmfmp@gmail.com</a:t>
            </a:r>
            <a:r>
              <a:rPr b="0" lang="en-US" sz="2000" spc="-1" strike="noStrike">
                <a:solidFill>
                  <a:srgbClr val="004e6d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6686d"/>
                </a:solidFill>
                <a:latin typeface="Calibri"/>
              </a:rPr>
              <a:t>Партыка Надежда Владимиров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w Cen MT"/>
              </a:rPr>
              <a:t>E-mail:</a:t>
            </a:r>
            <a:r>
              <a:rPr b="0" lang="ru-RU" sz="2000" spc="-1" strike="noStrike">
                <a:solidFill>
                  <a:srgbClr val="0066ff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Tw Cen MT"/>
                <a:hlinkClick r:id="rId2"/>
              </a:rPr>
              <a:t>dpptmekolog@gmail.com</a:t>
            </a:r>
            <a:r>
              <a:rPr b="0" lang="en-US" sz="2000" spc="-1" strike="noStrike">
                <a:solidFill>
                  <a:srgbClr val="0066ff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Коми государственный педагогический инстит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Кафедра педагогики и методики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Г. Сыктывкар, ул. Коммунистическая, д. 21 (1 корпус КГП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каб. 3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500"/>
                            </p:stCondLst>
                            <p:childTnLst>
                              <p:par>
                                <p:cTn id="8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500"/>
                            </p:stCondLst>
                            <p:childTnLst>
                              <p:par>
                                <p:cTn id="9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000"/>
                            </p:stCondLst>
                            <p:childTnLst>
                              <p:par>
                                <p:cTn id="9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Желаем успехов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в освоени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метода проектов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и сетевых сервисов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Веб 2.0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0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500"/>
                            </p:stCondLst>
                            <p:childTnLst>
                              <p:par>
                                <p:cTn id="9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2000"/>
                            </p:stCondLst>
                            <p:childTnLst>
                              <p:par>
                                <p:cTn id="9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щая характеристика проект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13840" y="1599840"/>
            <a:ext cx="8551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Тема: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редства ИКТ в экологическом образовании детей дошкольного возра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Участники: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уденты 636 групп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Учебные дисциплины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пользование современных информационных и коммуникационных технологий в учебном процесс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ория и методика экологического образования дет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Руководител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ина Анатольевна Габова, к.п.н., доцен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дежда Владимировна Партыка, ст. преподавател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Цель проекта: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одготовка студентов к работе по экологическому образованию детей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85480" y="1599840"/>
            <a:ext cx="8715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99"/>
                </a:solidFill>
                <a:latin typeface="Calibri"/>
              </a:rPr>
              <a:t>Задачи проект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влекать студентов к самостоятельному поиску и анализу информа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пособствовать овладению студентами научно-исследовательскими умениями как основой проектирования работы по экологическому образованию де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йствовать развитию научно-методического кругозора студентов, побуждать к самообразованию, саморазвити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ть становление творческой активной позиции студентов во взаимодействии в процессе коллективного поиска идей, достижение совместных творческих результат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вать условия для освоения умений использовать информационные технологии для представления хода и результатов исследовательской деятель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Что вы сможете </a:t>
            </a:r>
            <a:br>
              <a:rPr sz="3200"/>
            </a:b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в результате работы над проектом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85840" y="1714320"/>
            <a:ext cx="87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 уровне знания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еречислить основные виды растений и животных в уголке природы дошкольного учреждения, доступных пониманию детьми дошкольного возраст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сформулировать требования к условиям содержания определенных видов растений и животных в уголке природ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 уровне поним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рассуждать о возможностях использования средства ИКТ дл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) создания дидактических материал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) презентации результатов своей работ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) организации занятий с деть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г)  поиска информации по теме исслед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5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99"/>
                </a:solidFill>
                <a:latin typeface="Comic Sans MS"/>
              </a:rPr>
              <a:t>Что вы сможете </a:t>
            </a:r>
            <a:br>
              <a:rPr sz="2900"/>
            </a:br>
            <a:r>
              <a:rPr b="1" lang="ru-RU" sz="2900" spc="-1" strike="noStrike">
                <a:solidFill>
                  <a:srgbClr val="cc0099"/>
                </a:solidFill>
                <a:latin typeface="Comic Sans MS"/>
              </a:rPr>
              <a:t>в результате работы над проектом: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14200" y="1714320"/>
            <a:ext cx="8678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 уровне примене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подбирать задания, направленные на ознакомление дете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) с комнатными растения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) с обитателями аквариума, террариума, акватеррариум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использовать современные научно обоснованные приемы, методы и средства обучения, в том числе ИК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 уровне анализ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называть основные видовые признаки растений и животных уголка природ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характеризовать особенности ухода за определенными обитателями уголков природ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отбирать приемы ознакомления детей с растениями и животными в разных возрастных групп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99"/>
                </a:solidFill>
                <a:latin typeface="Comic Sans MS"/>
              </a:rPr>
              <a:t>Что вы сможете </a:t>
            </a:r>
            <a:br>
              <a:rPr sz="2900"/>
            </a:br>
            <a:r>
              <a:rPr b="1" lang="ru-RU" sz="2900" spc="-1" strike="noStrike">
                <a:solidFill>
                  <a:srgbClr val="cc0099"/>
                </a:solidFill>
                <a:latin typeface="Comic Sans MS"/>
              </a:rPr>
              <a:t>в результате работы над проектом: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86439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На уровне синтез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самостоятельно конструировать развивающие задания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осуществлять планирование и проведение занятий с детьм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планировать построение предметно-развивающей среды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осуществлять моделирование образовательного процесса в соответствии с современными концепциями дошкольного образова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На уровне оценки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проводить самоанализ и самооценку, взаимоанализ и взаимооценку деятельности  с целью повышения педагогической квалифик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планировать мероприятия по организации контроля за результатами обучения и воспита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Comic Sans MS"/>
              </a:rPr>
              <a:t>Умения 21-го века осваиваем в проекте!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Ответственность и адаптивност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гибкость в личных, учебных и профессиональных делах; достижение высоких стандартов и целей для себя и друг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Коммуникативные умения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понимание другого, умение создавать эффективные формы устного, письменного, мультимедийного и сетевого общ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Креативность и любознательност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генерирование новых идей, их применение и обмен с другими; открытость новым и отличающимся от собственной точкам зр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Критическое и системное мышлени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мышление, обуславливающее совершение верного выбора; понимание взаимосвязей в сложных систем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Информационная и медиа грамотност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умение находить, анализировать, обрабатывать, интегрировать, оценивать информацию в разных формах и на различных типах медиаоборудова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Межличностное взаимодействие и сотрудничество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умение работать в команде; выполнять разные роли и обязанности; продуктивно взаимодействовать с другими; сопереживать; уважать различные мн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Постановка и решение проблем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способность формулировать, анализировать и решать проблем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Направленность на саморазвити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мониторинг процесса освоения и своих потребностей в обучении; поиск ресурсов; перемещение информации из одной области знаний в другую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Социальная ответ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умение действовать в интересах сообщества; демонстрация этичного поведения в личном и общественном контекст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500"/>
                            </p:stCondLst>
                            <p:childTnLst>
                              <p:par>
                                <p:cTn id="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500"/>
                            </p:stCondLst>
                            <p:childTnLst>
                              <p:par>
                                <p:cTn id="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50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8500"/>
                            </p:stCondLst>
                            <p:childTnLst>
                              <p:par>
                                <p:cTn id="4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4200" y="1714320"/>
            <a:ext cx="8715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omic Sans MS"/>
              </a:rPr>
              <a:t>Основополагающий вопрос проекта:</a:t>
            </a:r>
            <a:br>
              <a:rPr sz="3600"/>
            </a:br>
            <a:r>
              <a:rPr b="1" lang="ru-RU" sz="3600" spc="-1" strike="noStrike">
                <a:solidFill>
                  <a:srgbClr val="115964"/>
                </a:solidFill>
                <a:latin typeface="Comic Sans MS"/>
              </a:rPr>
              <a:t>Как средства ИКТ </a:t>
            </a:r>
            <a:br>
              <a:rPr sz="3600"/>
            </a:br>
            <a:r>
              <a:rPr b="1" lang="ru-RU" sz="3600" spc="-1" strike="noStrike">
                <a:solidFill>
                  <a:srgbClr val="115964"/>
                </a:solidFill>
                <a:latin typeface="Comic Sans MS"/>
              </a:rPr>
              <a:t>помогают педагогу </a:t>
            </a:r>
            <a:br>
              <a:rPr sz="3600"/>
            </a:br>
            <a:r>
              <a:rPr b="1" lang="ru-RU" sz="3600" spc="-1" strike="noStrike">
                <a:solidFill>
                  <a:srgbClr val="115964"/>
                </a:solidFill>
                <a:latin typeface="Comic Sans MS"/>
              </a:rPr>
              <a:t>в экологическом образовании детей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Темы творческих проектов студен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57120" y="1600200"/>
            <a:ext cx="87868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мнатные растения в уголке природы дошкольного учрежд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квариум – модель экологической систем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тицы в уголке природы дошкольного учрежд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елкие млекопитающие – постоянные обитатели живого угол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езонные обитатели уголка природы дошкольного учрежд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6:49:41Z</dcterms:created>
  <dc:creator>Serg</dc:creator>
  <dc:description/>
  <dc:language>en-US</dc:language>
  <cp:lastModifiedBy>Serg</cp:lastModifiedBy>
  <dcterms:modified xsi:type="dcterms:W3CDTF">2010-03-11T15:21:46Z</dcterms:modified>
  <cp:revision>14</cp:revision>
  <dc:subject/>
  <dc:title>Слайд 1</dc:title>
</cp:coreProperties>
</file>